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4.wmf" ContentType="image/x-wmf"/>
  <Override PartName="/ppt/media/image9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1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562752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71680" y="509760"/>
            <a:ext cx="3399120" cy="25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d1f79"/>
                </a:solidFill>
                <a:latin typeface="Arial"/>
              </a:rPr>
              <a:t>Click to move the slide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322280" y="3228840"/>
            <a:ext cx="7392960" cy="30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6457680"/>
            <a:ext cx="4300560" cy="33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5627520" y="6457680"/>
            <a:ext cx="4300560" cy="33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027EA8-CE3F-4272-B906-2CAC083914C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627520" y="6457680"/>
            <a:ext cx="4300560" cy="33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969660-792F-4F2E-9B67-11615DA102A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6457680"/>
            <a:ext cx="4300560" cy="33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62752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1322280" y="3228840"/>
            <a:ext cx="73929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480060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480060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d1f79"/>
                </a:solidFill>
                <a:latin typeface="Arial"/>
              </a:rPr>
              <a:t>Click to edit the title text format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78720" y="324000"/>
            <a:ext cx="106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A5F7-B216-44E6-9139-1DBF054EC90E}" type="slidenum">
              <a:rPr b="1" i="1" lang="de-DE" sz="3000" spc="-1" strike="noStrike">
                <a:solidFill>
                  <a:srgbClr val="899bf3"/>
                </a:solidFill>
                <a:latin typeface="Arial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800600" y="45720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>
            <a:lum bright="18000"/>
          </a:blip>
          <a:srcRect l="0" t="2241" r="0" b="47485"/>
          <a:stretch/>
        </p:blipFill>
        <p:spPr>
          <a:xfrm>
            <a:off x="0" y="1590840"/>
            <a:ext cx="9144000" cy="5038560"/>
          </a:xfrm>
          <a:prstGeom prst="rect">
            <a:avLst/>
          </a:prstGeom>
          <a:ln w="0">
            <a:noFill/>
          </a:ln>
        </p:spPr>
      </p:pic>
      <p:pic>
        <p:nvPicPr>
          <p:cNvPr id="5" name="DIL-LogoClaim_neg_RGB" descr=""/>
          <p:cNvPicPr/>
          <p:nvPr/>
        </p:nvPicPr>
        <p:blipFill>
          <a:blip r:embed="rId4"/>
          <a:stretch/>
        </p:blipFill>
        <p:spPr>
          <a:xfrm>
            <a:off x="380880" y="438120"/>
            <a:ext cx="2075040" cy="646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5120" indent="-195120">
              <a:lnSpc>
                <a:spcPct val="120000"/>
              </a:lnSpc>
              <a:spcBef>
                <a:spcPts val="157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5920" indent="188640">
              <a:spcBef>
                <a:spcPts val="400"/>
              </a:spcBef>
              <a:buClr>
                <a:srgbClr val="736be1"/>
              </a:buClr>
              <a:buFont typeface="Wingdings" charset="2"/>
              <a:buChar char="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23056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6496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06864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06864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06864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1625760"/>
            <a:ext cx="9144000" cy="3479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4826160"/>
            <a:ext cx="9144000" cy="36036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d1f79"/>
                </a:solidFill>
                <a:latin typeface="Arial"/>
              </a:rPr>
              <a:t>Click to edit the title text format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6705360" y="481320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800" spc="-1" strike="noStrike">
                <a:solidFill>
                  <a:srgbClr val="0d1f7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DIL-LogoClaim_neg_RGB" descr=""/>
          <p:cNvPicPr/>
          <p:nvPr/>
        </p:nvPicPr>
        <p:blipFill>
          <a:blip r:embed="rId4"/>
          <a:stretch/>
        </p:blipFill>
        <p:spPr>
          <a:xfrm>
            <a:off x="380880" y="438120"/>
            <a:ext cx="2075040" cy="646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5920" indent="188640" algn="ctr">
              <a:spcBef>
                <a:spcPts val="400"/>
              </a:spcBef>
              <a:buClr>
                <a:srgbClr val="736be1"/>
              </a:buClr>
              <a:buFont typeface="Wingdings" charset="2"/>
              <a:buChar char="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087560" algn="ct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1049400" algn="ct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  <a:tab algn="l" pos="5143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01124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01124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01124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4800600"/>
            <a:ext cx="3505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Hauptversammlung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4800600"/>
            <a:ext cx="4876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16. Juni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243828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d8dffc"/>
                </a:solidFill>
                <a:latin typeface="Arial"/>
              </a:rPr>
              <a:t>Wir begrüßen Sie zu unserer Hauptversammlung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Finanzverschuldung wieder rückläufig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Jahresabschluss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0520" y="507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7960" y="2666880"/>
            <a:ext cx="41907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5760" indent="-27576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nanzverschuldung nach dem akquisitionsbedingten Anstieg in 2007 wieder rückläu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5760" indent="-27576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igenkapital liegt per Ende 2008 mit 96,7 Mio. € um 13,4 Mio. € über Vorjahresniveau (83,3 Mio. €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5760" indent="-27576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igenkapital je Aktie liegt bei 2,19 € je Aktie (Vorjahr 1,86 €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5760" indent="-27576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igenkapitalquote steigt bei unveränderter Bilanzsumme von 35,1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 auf 40,8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80880" y="2666880"/>
          <a:ext cx="371484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66880"/>
                    <a:ext cx="371484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43080" y="1828800"/>
            <a:ext cx="82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  <a:ea typeface="Times New Roman"/>
              </a:rPr>
              <a:t>Eigenkapitalausstattung komfortabel im Zielkorr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Aktienrückkaufprogramm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Jahresabschluss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0520" y="507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6120" y="2666880"/>
            <a:ext cx="41907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135000"/>
              </a:lnSpc>
              <a:spcBef>
                <a:spcPts val="612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wischen dem 1.10. und dem 31.12.2008 wurden insgesamt 513.917 eigene Aktien zu einem Durchschnittskurs von 1,0327 € zurückgekauf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612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m ersten Quartal 2009 wurden 382.154 eigene Aktien zu einem Durchschnittskurs von 1,0185 € zurückgekauf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612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sgesamt wurden damit 896.071 Aktien erworben (2,0 % des Grundkapitals); die zurückgekauften Aktien wurden mit der Folge der Herabsetzung des Grundkapitals eingezo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80880" y="2657520"/>
          <a:ext cx="371484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57520"/>
                    <a:ext cx="371484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343080" y="1828800"/>
            <a:ext cx="82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  <a:ea typeface="Times New Roman"/>
              </a:rPr>
              <a:t>Gezeichnetes Kapital um 2 % reduzi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80880" y="2222640"/>
          <a:ext cx="7772400" cy="3644640"/>
        </p:xfrm>
        <a:graphic>
          <a:graphicData uri="http://schemas.openxmlformats.org/drawingml/2006/table">
            <a:tbl>
              <a:tblPr/>
              <a:tblGrid>
                <a:gridCol w="874800"/>
                <a:gridCol w="6897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 w="18720">
                      <a:solidFill>
                        <a:srgbClr val="899bf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indent="291960">
                        <a:lnSpc>
                          <a:spcPct val="135000"/>
                        </a:lnSpc>
                        <a:spcBef>
                          <a:spcPts val="1250"/>
                        </a:spcBef>
                        <a:buClr>
                          <a:srgbClr val="ff0000"/>
                        </a:buClr>
                        <a:buFont typeface="Wingdings" charset="2"/>
                        <a:buChar char=""/>
                        <a:tabLst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esabschluss 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899bf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e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indent="291960">
                        <a:lnSpc>
                          <a:spcPct val="12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Font typeface="Wingdings" charset="2"/>
                        <a:buChar char=""/>
                        <a:tabLst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stes Quartal 2009, Planung 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ef9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indent="291960">
                        <a:lnSpc>
                          <a:spcPct val="12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Font typeface="Wingdings" charset="2"/>
                        <a:buChar char=""/>
                        <a:tabLst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ie, Ausb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99b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99bf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Umsatzentwicklung in Q1 2009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Erstes Quartal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0520" y="507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09800" y="2666880"/>
            <a:ext cx="4343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rlösniveau um 11,3 % unter Vorja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dustriegüterverpackung“ hat sich weitgehend behauptet (Erlöse –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3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5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nsumgüterverpackung“ minus 18,6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; USA (–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6,9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); Italien (–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2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,8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); Belgien (–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14,2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gerlogistik“ minus 19,3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; deutlich niedrigere Luftfrachtvolumen führten im Flughafengeschäft zu Rückgängen um mehr als ein Dr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3080" y="1828800"/>
            <a:ext cx="82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  <a:ea typeface="Times New Roman"/>
              </a:rPr>
              <a:t>Spürbare Auswirkungen der Wirtschaftk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82680" y="2666880"/>
          <a:ext cx="371160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2666880"/>
                    <a:ext cx="371160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457200" y="63244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* inkl. Ho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Ergebnisentwicklung in Q1 2009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Erstes Quartal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2666880"/>
            <a:ext cx="4267080" cy="36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dustriegüterverpackung 2,6 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Vj.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2,5) Mio. €; Konsumgüterverpackung –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0,2 (Vj. –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0,8) Mio. €; Lagerlogistik –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0,5 (Vj. 1,8 inkl. Buchgewinn i.H.v. 0,9) Mio. €; Holding –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0,2 (Vj. –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0,5) Mio.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ttogewinn 0,1 (Vj. 1,2) Mio.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tto-Finanzverschuldung beträg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9,8 nach 49,0 Mio. € am Jahrese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igenkapitalquote weiter über 40 %  (40,2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 nach 40,8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 am Jahresen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80" y="1828800"/>
            <a:ext cx="82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  <a:ea typeface="Times New Roman"/>
              </a:rPr>
              <a:t>Trotz Wirtschaftskrise weiter profit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53880" y="2666880"/>
          <a:ext cx="371484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2666880"/>
                    <a:ext cx="371484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Planung 2009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Planung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8200" y="1980720"/>
            <a:ext cx="8570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15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rwartete Umsatzerlöse 2009: &gt; 305 Mio.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5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-EBITA (Konzern) 2009: &gt; 10,0 Mio.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5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wartetes Investitionsvolumen: ca. 6,0 Mio.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5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wartete Finanzlage: keine wesentlichen Finanzierungsmaßnahmen für den laufenden Geschäftsbetrieb notwend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45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ür 2010 wieder organisches Umsatzwachstum und steigende Erträge erwar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80880" y="2222640"/>
          <a:ext cx="7772400" cy="3644640"/>
        </p:xfrm>
        <a:graphic>
          <a:graphicData uri="http://schemas.openxmlformats.org/drawingml/2006/table">
            <a:tbl>
              <a:tblPr/>
              <a:tblGrid>
                <a:gridCol w="874800"/>
                <a:gridCol w="6897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 w="18720">
                      <a:solidFill>
                        <a:srgbClr val="899bf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indent="291960">
                        <a:lnSpc>
                          <a:spcPct val="135000"/>
                        </a:lnSpc>
                        <a:spcBef>
                          <a:spcPts val="1250"/>
                        </a:spcBef>
                        <a:buClr>
                          <a:srgbClr val="ff0000"/>
                        </a:buClr>
                        <a:buFont typeface="Wingdings" charset="2"/>
                        <a:buChar char=""/>
                        <a:tabLst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esabschluss 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899bf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indent="291960">
                        <a:lnSpc>
                          <a:spcPct val="12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Font typeface="Wingdings" charset="2"/>
                        <a:buChar char=""/>
                        <a:tabLst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stes Quartal 2009, Planung 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e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indent="291960">
                        <a:lnSpc>
                          <a:spcPct val="12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Font typeface="Wingdings" charset="2"/>
                        <a:buChar char=""/>
                        <a:tabLst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ie, Ausb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ef9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99b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99bf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Geplante Ausrichtung des Konzerns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Strategie / Ausbl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135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gischer Fokus liegt auf der Verpackung und begleitenden Industriedienstleist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ustriegüterverpack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188640">
              <a:lnSpc>
                <a:spcPct val="135000"/>
              </a:lnSpc>
              <a:spcBef>
                <a:spcPts val="876"/>
              </a:spcBef>
              <a:buClr>
                <a:srgbClr val="736be1"/>
              </a:buClr>
              <a:buFont typeface="Wingdings" charset="2"/>
              <a:buChar char=""/>
              <a:tabLst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iterer Ausbau der Marktführerschaft in Deutsch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188640">
              <a:lnSpc>
                <a:spcPct val="135000"/>
              </a:lnSpc>
              <a:spcBef>
                <a:spcPts val="876"/>
              </a:spcBef>
              <a:buClr>
                <a:srgbClr val="736be1"/>
              </a:buClr>
              <a:buFont typeface="Wingdings" charset="2"/>
              <a:buChar char=""/>
              <a:tabLst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xpansion in weitere europäische Märkte und Übersee unter Ausnutzung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s einzigartigen Know-hows mit bestehenden und neuen Kun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sbau der Konsumgüterverpack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188640">
              <a:lnSpc>
                <a:spcPct val="135000"/>
              </a:lnSpc>
              <a:spcBef>
                <a:spcPts val="876"/>
              </a:spcBef>
              <a:buClr>
                <a:srgbClr val="736be1"/>
              </a:buClr>
              <a:buFont typeface="Wingdings" charset="2"/>
              <a:buChar char=""/>
              <a:tabLst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usbau und Verstärkung der Kundenbezieh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188640">
              <a:lnSpc>
                <a:spcPct val="135000"/>
              </a:lnSpc>
              <a:spcBef>
                <a:spcPts val="876"/>
              </a:spcBef>
              <a:buClr>
                <a:srgbClr val="736be1"/>
              </a:buClr>
              <a:buFont typeface="Wingdings" charset="2"/>
              <a:buChar char=""/>
              <a:tabLst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now-how-Transfer der „Total Packaging Solution“ von den USA nach Euro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188640">
              <a:lnSpc>
                <a:spcPct val="135000"/>
              </a:lnSpc>
              <a:spcBef>
                <a:spcPts val="624"/>
              </a:spcBef>
              <a:buClr>
                <a:srgbClr val="736be1"/>
              </a:buClr>
              <a:buFont typeface="Wingdings" charset="2"/>
              <a:buChar char=""/>
              <a:tabLst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novation – Value Added – Intelligente Verpackung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Mittelfristige finanzielle Ziele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96640" y="1980720"/>
            <a:ext cx="8705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135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etiges profitables Umsatzwachstum,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wohl organisch als auch durch Akquisi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chhaltige operative Marge (EBITA-Marge) von über 4</a:t>
            </a:r>
            <a:r>
              <a:rPr b="1" lang="de-DE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% (2008: 4,3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besserung des Finanzergebnisses und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timierung des Steueraufw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igenkapitalquote nachhaltig deutlich über 30</a:t>
            </a:r>
            <a:r>
              <a:rPr b="1" lang="de-DE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% (Stand 31.12.2008: 40,8</a:t>
            </a:r>
            <a:r>
              <a:rPr b="1" lang="de-DE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Strategie / Ausbl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4800600"/>
            <a:ext cx="3505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Hauptversammlung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4800600"/>
            <a:ext cx="4876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16. Juni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2222640"/>
          <a:ext cx="7772400" cy="3644640"/>
        </p:xfrm>
        <a:graphic>
          <a:graphicData uri="http://schemas.openxmlformats.org/drawingml/2006/table">
            <a:tbl>
              <a:tblPr/>
              <a:tblGrid>
                <a:gridCol w="874800"/>
                <a:gridCol w="6897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 w="18720">
                      <a:solidFill>
                        <a:srgbClr val="899bf3"/>
                      </a:solidFill>
                    </a:lnT>
                    <a:lnB>
                      <a:noFill/>
                    </a:lnB>
                    <a:solidFill>
                      <a:srgbClr val="c5ce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indent="291960">
                        <a:lnSpc>
                          <a:spcPct val="135000"/>
                        </a:lnSpc>
                        <a:spcBef>
                          <a:spcPts val="1250"/>
                        </a:spcBef>
                        <a:buClr>
                          <a:srgbClr val="ff0000"/>
                        </a:buClr>
                        <a:buFont typeface="Wingdings" charset="2"/>
                        <a:buChar char=""/>
                        <a:tabLst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esabschluss 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899bf3"/>
                      </a:solidFill>
                    </a:lnT>
                    <a:lnB>
                      <a:noFill/>
                    </a:lnB>
                    <a:solidFill>
                      <a:srgbClr val="c5cef9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indent="291960">
                        <a:lnSpc>
                          <a:spcPct val="12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Font typeface="Wingdings" charset="2"/>
                        <a:buChar char=""/>
                        <a:tabLst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stes Quartal 2009, Planung 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indent="291960">
                        <a:lnSpc>
                          <a:spcPct val="12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Font typeface="Wingdings" charset="2"/>
                        <a:buChar char=""/>
                        <a:tabLst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ie, Ausb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99b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99bf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Highlights 2008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Jahresabschluss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79360" y="1981080"/>
            <a:ext cx="8483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13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msatz konstant bei 336,8 Mio. € (Vorjahr 337,7 Mio. €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188640">
              <a:lnSpc>
                <a:spcPct val="130000"/>
              </a:lnSpc>
              <a:spcBef>
                <a:spcPts val="876"/>
              </a:spcBef>
              <a:buClr>
                <a:srgbClr val="736be1"/>
              </a:buClr>
              <a:buFont typeface="Wingdings" charset="2"/>
              <a:buChar char=""/>
              <a:tabLst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sches Wachstum – 3,9</a:t>
            </a:r>
            <a:r>
              <a:rPr b="1" lang="de-DE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%, zusätzlich währungsbereinigt – 2,7</a:t>
            </a:r>
            <a:r>
              <a:rPr b="1" lang="de-DE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ves Ergebnis (EBITA) legt um 19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 auf 14,6 Mio. € z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euerposition durch die Aktivierung latenter Steuern i.H.v. 4,6 Mio. € infolge des Ergebnisabführungsvertrags mit der Deufol Tailleur gepräg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ttoergebnis 11,5 Mio. € (Vorjahr 2,8 Mio. €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rstmalige Dividende von 0,07 € je Aktie vorgeschl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tto-Finanzverbindlichkeiten wieder rückläufig (–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,4 Mio. € auf 49,0 Mio. €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ver Cashflow weiter auf hohem Niveau (15,7 Mio. € nach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6,0 Mio. € in 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  <a:ea typeface="Times New Roman"/>
              </a:rPr>
              <a:t>Deutliche Wachstumsraten beim Ergebnis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Jahresabschluss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3080" y="1828800"/>
            <a:ext cx="82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  <a:ea typeface="Times New Roman"/>
              </a:rPr>
              <a:t>Höheres Rentabilitätsniv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53880" y="2666880"/>
          <a:ext cx="371484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2666880"/>
                    <a:ext cx="371484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2666880"/>
            <a:ext cx="4227480" cy="30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ruttoergebnis um 3,6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 gestie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BITDA (+ 15,6 %) und EBITA (+ 18,9 %) mit zweistelligen Zuwachsra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rgebnis vor Steuern (EBT) wächst  um 26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 auf 9,9 Mio.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ttoergebnis erreicht 11,5 Mio. € nach 2,8 Mio.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rgebnis je Aktie 0,26 € (Vj. 0,07 €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  <a:ea typeface="Times New Roman"/>
              </a:rPr>
              <a:t>Umsatz gehalten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Jahresabschluss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0520" y="507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09800" y="2666880"/>
            <a:ext cx="4343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1520" indent="-28152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dustriegüterverpackung“ plus 7,0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; Logis Gruppe erstmalig enthalten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ansportumsätze i.H.v. 13 Mio. € entfa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nsumgüterverpackung“ minus 7,1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; Rückgang gleichmäßig über die Regionen (Belgien, Italien, USA) vertei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gerlogistik“ um 2,5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 rückläufig; nachlassende Volumina im Automobilbereich und bei der Luftfracht im zweiten Halbja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3080" y="1828800"/>
            <a:ext cx="82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  <a:ea typeface="Times New Roman"/>
              </a:rPr>
              <a:t>Umsatz bei 336,8 Mio. € weitgehend k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2680" y="2666880"/>
          <a:ext cx="371160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2666880"/>
                    <a:ext cx="371160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57200" y="63244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* inkl. Ho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Geographische Präsenz: Schwerpunkt Europa – starkes Standbein in den USA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Jahresabschluss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1981080"/>
            <a:ext cx="179280" cy="1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3048120"/>
            <a:ext cx="179280" cy="179280"/>
          </a:xfrm>
          <a:prstGeom prst="rect">
            <a:avLst/>
          </a:prstGeom>
          <a:solidFill>
            <a:srgbClr val="899b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2514600"/>
            <a:ext cx="179280" cy="17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3581280"/>
            <a:ext cx="179280" cy="179640"/>
          </a:xfrm>
          <a:prstGeom prst="rect">
            <a:avLst/>
          </a:prstGeom>
          <a:solidFill>
            <a:srgbClr val="0d1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190512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dustriegüterverpack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0 Stand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2438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nsumgüterverpack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 Stand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297180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agerlogist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8 Stand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0800" y="35053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.Logistics 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934320" y="4419720"/>
          <a:ext cx="2057400" cy="17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4419720"/>
                    <a:ext cx="20574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095880" y="4114800"/>
            <a:ext cx="2210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msatz nach Regio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2008, Mio. 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46483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utsch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5105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Übriges Euro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57150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172200" y="4829040"/>
            <a:ext cx="1991880" cy="76320"/>
            <a:chOff x="6172200" y="4829040"/>
            <a:chExt cx="1991880" cy="76320"/>
          </a:xfrm>
        </p:grpSpPr>
        <p:sp>
          <p:nvSpPr>
            <p:cNvPr id="132" name=""/>
            <p:cNvSpPr/>
            <p:nvPr/>
          </p:nvSpPr>
          <p:spPr>
            <a:xfrm>
              <a:off x="6172200" y="4867200"/>
              <a:ext cx="198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087760" y="4829040"/>
              <a:ext cx="76320" cy="76320"/>
            </a:xfrm>
            <a:prstGeom prst="ellipse">
              <a:avLst/>
            </a:prstGeom>
            <a:solidFill>
              <a:srgbClr val="0d1f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172200" y="5295960"/>
            <a:ext cx="1295280" cy="76320"/>
            <a:chOff x="6172200" y="5295960"/>
            <a:chExt cx="1295280" cy="76320"/>
          </a:xfrm>
        </p:grpSpPr>
        <p:sp>
          <p:nvSpPr>
            <p:cNvPr id="135" name=""/>
            <p:cNvSpPr/>
            <p:nvPr/>
          </p:nvSpPr>
          <p:spPr>
            <a:xfrm>
              <a:off x="6172200" y="5334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91520" y="5295960"/>
              <a:ext cx="75960" cy="76320"/>
            </a:xfrm>
            <a:prstGeom prst="ellipse">
              <a:avLst/>
            </a:prstGeom>
            <a:solidFill>
              <a:srgbClr val="0d1f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172200" y="5886360"/>
            <a:ext cx="1523880" cy="76320"/>
            <a:chOff x="6172200" y="5886360"/>
            <a:chExt cx="1523880" cy="76320"/>
          </a:xfrm>
        </p:grpSpPr>
        <p:sp>
          <p:nvSpPr>
            <p:cNvPr id="138" name=""/>
            <p:cNvSpPr/>
            <p:nvPr/>
          </p:nvSpPr>
          <p:spPr>
            <a:xfrm>
              <a:off x="6172200" y="59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20120" y="5886360"/>
              <a:ext cx="75960" cy="76320"/>
            </a:xfrm>
            <a:prstGeom prst="ellipse">
              <a:avLst/>
            </a:prstGeom>
            <a:solidFill>
              <a:srgbClr val="0d1f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0" name="2009-05-28-DIL-0595-Standortkarte" descr=""/>
          <p:cNvPicPr/>
          <p:nvPr/>
        </p:nvPicPr>
        <p:blipFill>
          <a:blip r:embed="rId3"/>
          <a:stretch/>
        </p:blipFill>
        <p:spPr>
          <a:xfrm>
            <a:off x="392040" y="1978200"/>
            <a:ext cx="5399280" cy="4498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Ergebniskennzahlen - Industriegüterverpackung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Jahresabschluss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0520" y="507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26668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e Marktführerschaft weiter gefesti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gis Gruppe erstmalig in den Zahlen enthal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ochtergesellschaft in Italien gegründet (Deufol Packaging Italy S.r.L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53880" y="2666880"/>
          <a:ext cx="371484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2666880"/>
                    <a:ext cx="371484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343080" y="1828800"/>
            <a:ext cx="82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  <a:ea typeface="Times New Roman"/>
              </a:rPr>
              <a:t>Starke Entwicklung in der Industriegüterverpack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Ergebniskennzahlen - Konsumgüterverpackung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Jahresabschluss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0520" y="507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6120" y="2666520"/>
            <a:ext cx="4190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SA: Positive Effekte aus Kostensenkungen und Neugeschäft wurden von Volumenrückgänge im Kerngeschäft konterkari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abile Entwicklung in Belgien, Erträge i.H.v. jährlich 1,2 Mio. € jetzt bei der Holding ausgewie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alien weiterhin profitabel, Ertrag i.H.v. 3,3 Mio. € nach Vergleich mit Vermieter im Zusammenhang mit Lagerschaden im Jahr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2666880"/>
          <a:ext cx="371484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66880"/>
                    <a:ext cx="371484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343080" y="1828800"/>
            <a:ext cx="82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  <a:ea typeface="Times New Roman"/>
              </a:rPr>
              <a:t>Unbefriedigende Entwicklung in den 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Ergebniskennzahlen - Lagerlogistik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Jahresabschluss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0520" y="507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6120" y="2666880"/>
            <a:ext cx="41907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rfreuliche Entwicklung der belgischen Gesellschaf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m deutschen Lagerlogistikgeschäft führten Volumenrückgänge im zweiten Halbjahr 2008 auch zu deutlich schwächeren Ergebni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2657520"/>
          <a:ext cx="371484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57520"/>
                    <a:ext cx="371484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43080" y="1828800"/>
            <a:ext cx="82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  <a:ea typeface="Times New Roman"/>
              </a:rPr>
              <a:t>Belastungen infolge der Wirtschaftsk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1T16:58:24Z</dcterms:created>
  <dc:creator>x</dc:creator>
  <dc:description/>
  <dc:language>en-US</dc:language>
  <cp:lastModifiedBy>Rainer Monetha</cp:lastModifiedBy>
  <dcterms:modified xsi:type="dcterms:W3CDTF">2009-06-23T08:19:24Z</dcterms:modified>
  <cp:revision>258</cp:revision>
  <dc:subject/>
  <dc:title>Kein Folientitel</dc:title>
</cp:coreProperties>
</file>